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300B-C66C-4BDB-8951-DEF8B5AA4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F1FB-623E-4941-AE3F-140F7F128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lgaeforbiofuels.com/genetic-engineering-brief-overview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2C8E-13DB-4608-94F5-A91D09089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onmentoring.blogspot.ca/2012/04/5-questions-to-ask-new-mente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so many people resistant to GM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DF49-76BA-44D0-8AC7-377FB8AE6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AE94-99CD-470F-9EC9-4DE6A8034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ontario.ca/en/initiatives/progressreport2011/ONT05_03914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7DE9-C15A-4418-AE5D-44F7A693A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ama.ama-assn.org/content/292/19/2325.sh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D3D9-8203-4C2C-847C-0080A9033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ook at the website for the complete list of conditions screen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wbornscreening.on.ca/bins/content_page.asp?cid=7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information: http://www.newbornscreening.on.ca/bins/content_page.asp?cid=6-18&amp;lang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D38-004D-43F0-B9F8-5C22A575D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video: http://www.cbc.ca/marketplace/episodes/2014-2015/dna-testing-gene-g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ature.com/polopoly_fs/7.13920.1385418885!/image/23andMe.jpg_gen/derivatives/landscape_630/23andM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E196-77FE-4AC8-BB8A-103FB8A74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B98F-991F-4E11-85E4-7CFD75B6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05D-1902-4418-A85C-64B99C7CC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encognitive.com/node/102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images…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6F4E-57F5-4211-B8AD-1C0D08FED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 (clockwise from top lef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nh-usa.org/genetically-engineered-foods-and-new-action-aler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almbeachorganics.org/wordpress/?p=6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yessentia.com/blog/blog/tag/gmo-foo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lickr.com/photos/frozen_photon/238319092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BF9B-A042-4693-8447-3C01EE023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journal.livingfood.us/2009/08/02/roasted-heirloom-tomato-sou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F24B-DF46-4EDD-AA6F-1F1E67DAE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dyposted.com/10087/frankenfood-for-a-hungry-pla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37E5-7605-4B4A-B3B5-E93E265EF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F205-D64F-4CEA-AEF0-4B30BE666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F556-1076-4B40-904E-BBDD1BAD3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crystalinks.com/transgenicplan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C831-AE80-4EF3-B53A-277B06455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a-pets.bravehost.com/Mice/mi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3 is tumour-suppressing gene in humans…knockout mice got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0D9-962B-43C2-B140-ADA8202D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584-2A22-4279-8AD4-F24ADE87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B6D-3707-45F6-AA6E-78E2D3B5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161-F5C0-475A-9E1A-E8F888C6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A5E-7ADA-4D75-A423-741AFD7E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407-3684-430F-9DC1-935D07D7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B61-1885-4A75-964C-6A06C6F0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4F5-66B8-45C1-89A8-3C9E433B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68A-8A92-4ECC-9F50-8B39AF42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64A-73FE-4888-85C9-F53EAAFD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2E2-E807-464C-88F9-6E7B6FD7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8C3-6C3B-4850-A28A-7E4A417D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17FF-CC03-416B-B134-5786D925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bc.ca/marketplace/episodes/2014-2015/dna-testing-gene-genie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ngineer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signing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etal Concer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breeding and/or competition with native plants or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contain toxins that harm consumers (e.g., GM safflo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?  pat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echnology &amp;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ont05_039341"/>
          <p:cNvPicPr/>
          <p:nvPr/>
        </p:nvPicPr>
        <p:blipFill>
          <a:blip r:embed="rId1"/>
          <a:stretch/>
        </p:blipFill>
        <p:spPr>
          <a:xfrm>
            <a:off x="1631880" y="1981080"/>
            <a:ext cx="587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graphic-1"/>
          <p:cNvPicPr/>
          <p:nvPr/>
        </p:nvPicPr>
        <p:blipFill>
          <a:blip r:embed="rId1"/>
          <a:stretch/>
        </p:blipFill>
        <p:spPr>
          <a:xfrm>
            <a:off x="1862280" y="609480"/>
            <a:ext cx="5419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ario 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Ontario_logo"/>
          <p:cNvPicPr/>
          <p:nvPr/>
        </p:nvPicPr>
        <p:blipFill>
          <a:blip r:embed="rId1"/>
          <a:stretch/>
        </p:blipFill>
        <p:spPr>
          <a:xfrm>
            <a:off x="2448000" y="4648320"/>
            <a:ext cx="4246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ditary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identification of some hereditary disorders can help to allow for treatment to minimize symptoms throug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miss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excellent episode of CBC Marketplace about DNA testing k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6" descr="23andMe.jpg"/>
          <p:cNvPicPr/>
          <p:nvPr/>
        </p:nvPicPr>
        <p:blipFill>
          <a:blip r:embed="rId2"/>
          <a:srcRect l="0" t="-41687" r="0" b="-41687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s the possibility of correcting the genetic de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m-line gene thera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genomes of germ cells (game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atic gene thera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somatic cell gen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gmo-seeds-of-deception-cancer-heart-disease-unhealthy"/>
          <p:cNvPicPr/>
          <p:nvPr/>
        </p:nvPicPr>
        <p:blipFill>
          <a:blip r:embed="rId1"/>
          <a:stretch/>
        </p:blipFill>
        <p:spPr>
          <a:xfrm>
            <a:off x="1131840" y="1981080"/>
            <a:ext cx="687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2009_11_gmocorn"/>
          <p:cNvPicPr/>
          <p:nvPr/>
        </p:nvPicPr>
        <p:blipFill>
          <a:blip r:embed="rId1"/>
          <a:stretch/>
        </p:blipFill>
        <p:spPr>
          <a:xfrm>
            <a:off x="1181160" y="6858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2383190926_7e7a06ce5a_z"/>
          <p:cNvPicPr/>
          <p:nvPr/>
        </p:nvPicPr>
        <p:blipFill>
          <a:blip r:embed="rId2"/>
          <a:stretch/>
        </p:blipFill>
        <p:spPr>
          <a:xfrm>
            <a:off x="844560" y="3581280"/>
            <a:ext cx="3490920" cy="2819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gm_food"/>
          <p:cNvPicPr/>
          <p:nvPr/>
        </p:nvPicPr>
        <p:blipFill>
          <a:blip r:embed="rId3"/>
          <a:stretch/>
        </p:blipFill>
        <p:spPr>
          <a:xfrm>
            <a:off x="4722840" y="762120"/>
            <a:ext cx="365904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genetically_modified_food"/>
          <p:cNvPicPr/>
          <p:nvPr/>
        </p:nvPicPr>
        <p:blipFill>
          <a:blip r:embed="rId4"/>
          <a:stretch/>
        </p:blipFill>
        <p:spPr>
          <a:xfrm>
            <a:off x="4981680" y="3657600"/>
            <a:ext cx="3217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rloom Var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eirloom-tomatoes"/>
          <p:cNvPicPr/>
          <p:nvPr/>
        </p:nvPicPr>
        <p:blipFill>
          <a:blip r:embed="rId1"/>
          <a:stretch/>
        </p:blipFill>
        <p:spPr>
          <a:xfrm>
            <a:off x="2344680" y="1981080"/>
            <a:ext cx="445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h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harmcorn"/>
          <p:cNvPicPr/>
          <p:nvPr/>
        </p:nvPicPr>
        <p:blipFill>
          <a:blip r:embed="rId1"/>
          <a:stretch/>
        </p:blipFill>
        <p:spPr>
          <a:xfrm>
            <a:off x="1484280" y="1981080"/>
            <a:ext cx="617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h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 engineered host organisms are used to make pharmaceuticals or other medically-important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n be isolated from milk (e.g., cows, goats) or seeds (e.g., safflowers) and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genic (GM)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nimals and pl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cheaper to maintain than transgenic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 ability to produce larger more complex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genic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 canola and other field crops are usually engineered to resist herbicides, reducing the farmers’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potential to provide food in developing countries, but cost of patented seeds can be prohib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ckout M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ed to have at least one gene turn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studying effects of specific genes on human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oxing mouse"/>
          <p:cNvPicPr/>
          <p:nvPr/>
        </p:nvPicPr>
        <p:blipFill>
          <a:blip r:embed="rId1"/>
          <a:stretch/>
        </p:blipFill>
        <p:spPr>
          <a:xfrm>
            <a:off x="5189400" y="1981080"/>
            <a:ext cx="272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2:00:54Z</dcterms:created>
  <dc:creator>rubina khan</dc:creator>
  <dc:description/>
  <dc:language>en-US</dc:language>
  <cp:lastModifiedBy>rubina khan</cp:lastModifiedBy>
  <dcterms:modified xsi:type="dcterms:W3CDTF">2015-11-27T18:25:49Z</dcterms:modified>
  <cp:revision>66</cp:revision>
  <dc:subject/>
  <dc:title>Genetic Engineering Biotechnology &amp; Helath</dc:title>
</cp:coreProperties>
</file>